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360-B096-49D6-93DD-C47D5108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FE6-D54D-4D90-9D8B-2E020AF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80E-3EBC-4648-905E-90A2D41E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080-7E58-4E13-943E-4432BA8A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BFC62-1C8B-41D0-8C09-4204DFD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863C1-CB6D-45A5-855E-B65A783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0055-F77A-4E89-834B-678A77F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86AB2-E292-473A-8563-063965A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7D1DA-C24D-4EC0-B6C4-708AE99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0C1B0-5731-42AC-B753-AF742DB7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F6048-8E29-44BE-87F1-C847996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AD5-0083-4496-B88D-BD10D68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2FEDE-33B8-4614-8F97-A2E3AE0C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8B20F-ED62-4B24-ADA6-170F3FF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C9F21-C914-4007-BB87-06C4621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54CE3-D09A-4585-9052-87DD0788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44EC-532B-4B4D-8762-DAB46324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E02-F822-442D-B9B8-7D32F72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066-E1C7-46DB-A651-063859F7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515-2FF8-4C11-B20A-A5124881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B8E-D94A-45ED-AF1F-EAC47D19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538-D620-48BD-8EC8-407AEB9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6E7-CB82-45EC-BB23-60AFD17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8D9-2F3E-4C10-83B3-ADB654C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2DC-D8E4-4022-AC57-4DAF606EA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AAE-D2ED-45EF-9D0C-D021D2B58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slandeventphotos.com/the%2520kiss.jpg&amp;imgrefurl=http://www.islandeventphotos.com/thekiss1.htm&amp;h=543&amp;w=600&amp;sz=43&amp;hl=en&amp;start=42&amp;tbnid=gcL5UxQxVfU6VM:&amp;tbnh=122&amp;tbnw=135&amp;prev=/images%3Fq%3Da%2Bkiss%26start%3D40%26ndsp%3D20%26svnum%3D10%26hl%3Den%26lr%3D%26ie%3DUTF-8%26oe%3DISO-8859-1%26safe%3Doff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eur.news1.yimg.com/eur.yimg.com/xp/afpji/20060712/060712185038.792u0mml0_huda-ghalya-crying-next-to-the-body-of-her-father-b.jpg&amp;imgrefurl=http://uk.news.yahoo.com/12072006/323/photo/huda-ghalya-crying-next-body-father-killed-shell-beach.html&amp;h=351&amp;w=512&amp;sz=87&amp;hl=en&amp;start=29&amp;tbnid=XPBdy7z_Z-XZIM:&amp;tbnh=90&amp;tbnw=131&amp;prev=/images%3Fq%3Dcrying%26start%3D20%26ndsp%3D20%26svnum%3D10%26hl%3Den%26lr%3D%26ie%3DUTF-8%26oe%3DISO-8859-1%26safe%3Doff%26sa%3D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anheller.com/images/Asia/Japan/Tokyo/RoyalPalaceGardens/woman-looking-bw.jpg&amp;imgrefurl=http://www.danheller.com/tokyo-bw.html&amp;h=183&amp;w=275&amp;sz=37&amp;hl=en&amp;start=61&amp;tbnid=QGY3XbplqQVnWM:&amp;tbnh=76&amp;tbnw=114&amp;prev=/images%3Fq%3Dwoman%2Blooking%26start%3D60%26ndsp%3D20%26svnum%3D10%26hl%3Den%26lr%3D%26ie%3DUTF-8%26oe%3DISO-8859-1%26safe%3Doff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evanescencewebsite.com/FAQ/AngelOfGrief/Alex/Angel%2520Of%2520Grief%25201.JPG&amp;imgrefurl=http://www.evanescencewebsite.com/FAQeng.htm&amp;h=600&amp;w=800&amp;sz=84&amp;hl=en&amp;start=10&amp;tbnid=-VyNbdaNmnI7zM:&amp;tbnh=107&amp;tbnw=143&amp;prev=/images%3Fq%3Dgrief%26svnum%3D10%26hl%3Den%26lr%3D%26ie%3DUTF-8%26oe%3DISO-8859-1%26safe%3Dof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1.dshs.wa.gov/graphics/adsa/ddd/eligible.gif&amp;imgrefurl=http://www1.dshs.wa.gov/ddd/eligible.shtml&amp;h=187&amp;w=205&amp;sz=27&amp;hl=en&amp;start=31&amp;tbnid=pZlZkRcJO_TT9M:&amp;tbnh=96&amp;tbnw=105&amp;prev=/images%3Fq%3Dwoman%2Bhelping%26start%3D20%26ndsp%3D20%26svnum%3D10%26hl%3Den%26lr%3D%26ie%3DUTF-8%26oe%3DISO-8859-1%26safe%3Doff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martinshousing.org.uk/images/winter_man_bench.jpg&amp;imgrefurl=http://www.stmartinshousing.org.uk/how_help.htm&amp;h=148&amp;w=274&amp;sz=13&amp;hl=en&amp;start=4&amp;tbnid=Ivr-M3x2GqO5HM:&amp;tbnh=61&amp;tbnw=113&amp;prev=/images%3Fq%3Dhomeless%2Bman%2Bon%2Bbench%26svnum%3D10%26hl%3Den%26lr%3D%26ie%3DUTF-8%26oe%3DISO-8859-1%26safe%3Doff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clipartspace.com/clipart/hearts/heart7.jpg&amp;imgrefurl=http://www.clipartspace.com/heart-clipart.htm&amp;h=331&amp;w=325&amp;sz=23&amp;hl=en&amp;start=2&amp;tbnid=Jz4SLzaS50rnyM:&amp;tbnh=119&amp;tbnw=117&amp;prev=/images%3Fq%3Dheart%26svnum%3D10%26hl%3Den%26lr%3D%26ie%3DUTF-8%26oe%3DISO-8859-1%26safe%3Doff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angelin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zie Kohlhard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a 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gende était dans les Étais-Unis, il semblera comme Romeo et Juli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ais venant de Québec, l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gende a culture particul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excite encore aujourd’hui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ient en l’amour et que es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èrent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648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nocence de Amour Nouvea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Gabriel eu le amour uniqu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Déchiré Sépar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s les Anglais sont arriv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s adieu, sans un sour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se peut que la perte de l’amour tue l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âme d’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ge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133720"/>
            <a:ext cx="46483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èle Amou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s allions affaire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yez-vous que il y ayez seulement un amour vrai pour chaque person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-il vrai que il soit mieu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á aimé et perdu que n’aimé jamias du tou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a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n’affai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 jamias son amour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ors pentant plus de vingt ans, elle a reche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 ton amant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12408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est important que vou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prouviez la perte de 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le chagrin immense dans la chan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09680"/>
            <a:ext cx="4419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ce Nouveau et un Autre Espoi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 . .      Tu 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cus dans le seul désir de soulager et de guérir ceux qui soufraient plus que toi-mêm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Ainsi que le trés long voyage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346480"/>
            <a:ext cx="3809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Éphémère Tem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ur pouvoir encore trouver la force de dire merci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2133720"/>
            <a:ext cx="50292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geline et Gabriel trouvaient l’autre, leur amou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était plus fort parce que le amour pousser avec tem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219320"/>
            <a:ext cx="3895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02:10Z</dcterms:created>
  <dc:creator>Charlie Kohlhardt </dc:creator>
  <dc:description/>
  <dc:language>en-US</dc:language>
  <cp:lastModifiedBy>Charlie Kohlhardt </cp:lastModifiedBy>
  <dcterms:modified xsi:type="dcterms:W3CDTF">2007-01-09T00:18:21Z</dcterms:modified>
  <cp:revision>8</cp:revision>
  <dc:subject/>
  <dc:title>Évangeline</dc:title>
</cp:coreProperties>
</file>